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64F-D48C-4C24-9E08-8487E581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E6D-55F4-4E2D-AB53-288D15D9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1BA-20D8-47A0-8299-4D339DBA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3A1-070C-49C5-9273-6250496B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DF6-77A9-45FD-B6B5-4F9CCAE4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4FE-A835-41CE-B942-CCEF8C2D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E25-2830-47AE-A2B1-2B75EF5D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F70-E790-41D2-86FF-72D1EE4F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09B-39C9-4F7B-B9BB-F0059F22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B06-A1D9-4C2A-A56F-92372A98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3CF-0758-4C38-8FEC-E6057184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218-3BD6-4EE3-9A39-332FBA46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E720-0B3D-401F-9871-8F9E78719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eb.mit.edu/invent/iow/cad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lejandro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380880"/>
            <a:ext cx="91440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cc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atorad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cc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Cade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4343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/28/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 rot="10800000">
            <a:off x="2741760" y="48002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5105520"/>
            <a:ext cx="20480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 se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48520" y="5486400"/>
            <a:ext cx="2209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tora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Invention: 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atorade has more than 15 flav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atorade also has energy bars and chewing g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atorade is made up with water, sugar, sodium,  potassium, phosphate, and lemon ju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atorade gained notoriety when the Florida Gators won there first Orange bow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The first flavor of Gatorade was Lemon L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The most flavor drank is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atorade joined with Quaker 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atorade is seen at every basketball, baseball, and football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Inventor: 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r. Robert Cade was born in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e was born in 19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e was trained in the university of Texas medical school in Da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e was working on research at the university and a coach was mad because his players couldn’t play in h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e did research and came up 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Gato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22Z</dcterms:created>
  <dc:creator>install</dc:creator>
  <dc:description/>
  <dc:language>en-US</dc:language>
  <cp:lastModifiedBy>install</cp:lastModifiedBy>
  <dcterms:modified xsi:type="dcterms:W3CDTF">2011-03-11T18:32:25Z</dcterms:modified>
  <cp:revision>8</cp:revision>
  <dc:subject/>
  <dc:title>Slide 1</dc:title>
</cp:coreProperties>
</file>